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3FA-21C7-467B-8214-B123B36D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C1B-B1D6-489B-A943-0EEFA57C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8C753-402A-4311-AC23-D71A8FD0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3C366-159E-4075-B69E-3879546D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B8369-DC8F-41EB-A435-8A82A5BA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AB455-11A6-41D0-937F-044EA04A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1FA1E-B13C-477D-B354-3EC4C2B5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FE92D-81EA-4796-B92E-98623CC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7D24B-E733-4772-BA51-49D79B59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557CE-246B-47D7-B703-A3FA73AF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04840-8B8A-4DF7-9198-06BA454D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FDCDE-DD18-4DC8-B339-2344CF1E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234-2697-4159-8EFB-C928EE55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E4685-1D8E-438A-B333-DDAD4B8B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0D96E-1BE9-4014-876D-5BA801D1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E0A9A-387F-4E17-BC66-E8D292C0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E3535-E853-4F47-9564-1D3B3261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33DD7-0D1D-46D2-805A-65A7FB97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532D9-2F1D-4F18-A505-0FDA7E1F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DE9D8-2323-4372-9A0A-A0F60B9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24902-F0CA-4F48-A3F2-93398E1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72BD3-FF52-4463-A036-82DA0157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741D3-A9DC-4D89-8624-9B6016BB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D8C-F8BA-4959-B01E-66B49B25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19CC5-CF45-4A6E-8A16-BC570BBD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3E593-ED4A-4B43-9183-6A92F16F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E7173-7048-4D41-891B-3C4492B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FB198-6A93-49C1-B876-AF0BD819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9B459-08AD-48D4-B7EC-AB07F26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D6626-DB75-4B17-BF89-21F9AAAE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D26F8-7DA4-45A7-A68A-DAC1825C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18AC6-CF88-499E-B44F-82C3ACEA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258B7-24CC-4EC8-A14F-2E95AB9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668EA-886B-411A-935F-D4421A7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F342-A912-4642-A719-FBEA9EC5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65419-172C-4860-B189-75421F9E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86CDB-9CF0-40A5-97CA-5F1D6E49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370E4-63E3-480D-8BE5-B35DEEAC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B57AA-AE62-43C3-80D0-31385637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EE437-38D3-4272-8018-5F7EF058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6BF5B-D26E-474B-8597-DBA95DF0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24CA7-9E7C-4141-A0DF-D1EF4C9B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8D34C-9B44-4528-AE32-179B2ED3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9D535-AC29-448C-AA7D-69103504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8B2D4-4B6D-40A6-A154-89E9974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A98C-44DD-4596-B246-976D5F3F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F597E-8742-434A-988F-EC732B08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1B09E-BFF7-466D-8B26-5014645C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A9FB5-EF24-45D3-8E56-55C34595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BA6E5-E552-4107-B44C-8F001F02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17245-0BE2-4BF3-BDD5-5406002D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AC7E8-E2F6-49BC-92A7-5A686622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EBD2E-F2E0-479E-95A0-D6B0883B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591D7-716A-4643-8505-8DFB47B8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16E26-9449-45DD-90AE-28C94D1C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48C5B-2C3F-4280-9960-07444EFF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00B1-1798-4C42-9717-8F5D719B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4AAD8-3BA0-44CD-A05F-4F7E3087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31865-121A-441E-9CC9-75D4ABC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A68C1-674D-4F8B-957F-97C02F7E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2926E-ADD1-4EB7-849E-2B94FE23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250E1-20F9-4A19-A2CA-100A10DE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929E5-54D1-4617-9894-427E158F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C1276-A2F5-4FA5-B894-89FF44D3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57ADC-5650-468E-932B-5D2B37B0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FB788-5A89-483A-8E50-8AB09EBA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2F1B9-504A-42C9-994C-23116448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6898-0F72-4ED0-9F07-CE2D405E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B1ED0-7954-46AD-B7D3-7694C9AA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03F0A-9D6C-4ADE-9B54-7FEFC869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D9F75-8C42-4E2F-874C-DF30B9FA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2A4A0-63BA-45FB-BA31-E3912CB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1D717-1FFA-4AED-9384-7D2D8947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0B544-8114-4654-A65C-2B60EDB0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210FA-6802-491A-A201-2C16B27F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53DA8-E932-4653-B569-9458A120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37C8F-0746-469A-AC9B-412FF998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13009-763E-4F1D-A9FF-2910FEF7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42EB-C7BB-4C12-8703-E54A9424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2EB60-F04E-4506-83DE-4BDEB171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FF6A1-83C9-48D4-BEF2-576F4E17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F5146-3540-4614-AB3B-FAA5DA06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216EA-59F6-4415-A8E3-2EFF3621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EDD37-9C65-4CD5-9929-EEEA4B51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3DD87-E86F-4E24-85B0-1099439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1EE4D-097F-4585-953A-C06F1C1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22917-6D69-4D7C-AD10-7BBDB728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32EA1-0662-4B15-B1FA-F8C7E7F3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576F8-FB7A-4079-9010-4B6DA5DB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9465-6E84-41C1-8F2F-9C41B3C2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DDB78-FC32-4D05-89CF-BE6D31E8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B7C6F-87F3-4E61-9BAA-E63F65B2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BD682-D635-4DF1-A612-4299EC06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85379-33ED-4CE2-8AFE-596A8054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7BED3B-8D7F-473A-8F12-0A8C2081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0D5AF-B67F-418D-AA62-4E4502A9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EFD2CD-4C1C-4BCF-A44E-DCF1F4EC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7ADE1-1CFF-4665-98C2-AC46B59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41608-CCBC-4A55-A2F0-ACB1D01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DE195-EA24-4A73-8F26-5F441B5F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EBD-1E51-4E1D-9345-AA116DD2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B9BF3-F9F7-4538-8977-F9BAD267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7D598A-463E-4021-A3E3-AB84DEA4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1986F-58EF-47C9-B820-E4F98A4C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26F51-50CB-4668-8643-F182E635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AA7E2-42CE-4921-BA50-C723089A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3E143-1CA0-480C-ACD2-BD8E74C2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A55D7-C0E3-478B-B876-F5D53E7D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DF969-7307-4FBD-861B-104A5031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67618-8B87-47F5-8436-AE57F88D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1D2BB-EDBA-4FA3-AFA4-BFE70A77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FED-DC8F-4BCF-86E2-A995E477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E09E-029B-416C-B715-A3FD4096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6FD84-85CD-46E7-91D2-BE177C9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605DAB-3585-4817-B943-BDC0E024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313F9-C024-48EF-AB73-37FD5F2B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FA847-461D-4915-9F4D-2BB697BD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C52EE-EFD4-4716-8DC6-62B44FA5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84D58-590C-4450-A411-0326E4F1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7C807-3A24-4034-99FF-6D66DBE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03872-B2CE-470E-A35A-F90B0462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8A8C1-10C6-4976-B965-413682A9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CFB45-32D8-4B86-813F-60951B3A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B7A6-FB56-43CB-B9F5-F02B30EB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808FB1-A541-44B2-A0C0-9AEB8E40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75EEF-D2BC-4025-8D59-1B47687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D48B7-D7AD-454B-BF80-3DD4EA47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A1469-69B1-40EE-85D5-4CD0EB40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6FB55-2526-4583-8EFF-2126966E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C4E65-EB42-46F1-A5A2-F8E207D7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7908D-8E9D-4347-BCE9-5BAB9778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AAEB7-5396-49C7-873F-49608BD1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08272-4695-44D8-B327-A0D0EE95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1888A-8D45-4717-9511-9CD94E6F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2014-22FD-44B2-9DDF-F25D23E9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F99B1-3FE4-4DF4-8125-13665777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83086-13F9-4792-A4BE-22F8AD3E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8E8C3-A118-4DD5-BD95-6896BC6C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C40DDC-4378-4A9F-ADBB-1E48E045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1AE98-2735-42D4-BE3A-15194076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C7558-FE0B-4272-AA1C-8988B0F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E494E-77B7-47AB-BE79-3E236D8E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FC7C5C-23A6-4A12-B421-3257B2C2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7EC15-B493-48CE-9D34-16B6AF73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AF2172-7A0B-4CB0-A7C6-32ADE775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C773-9F4D-423F-99D8-2E7DC50C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AA48D-A486-430E-8D57-6E1EBB8E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9EF8F0-6B56-4356-80A2-9088B5A3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D84F8-16FA-415B-A3AC-8708E6EA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982E8-E36A-4EB5-8C98-9CDE4BCA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D2BD6-1CD2-4ADB-8837-6DF0A8BB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37118-0338-4589-8CAF-9D2EB785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3DADD-96D4-41E7-B730-66C5B3A9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4932C8-D998-4111-B6E4-07001CE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F451E-6E55-49D2-B6FB-70B0463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F380C-7C0D-47DD-95B6-13F711CA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B322-555D-455F-A562-245012F2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9CC084-6FDC-4C62-A3FE-DE7D37E2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4885D-34CE-4E0E-B8D9-A0670C53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87669B-E913-4222-B5B6-7157C2AD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BA4712-7E96-4B2C-89E4-B0EDE0FA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68414-8A31-4A13-9F58-1B87032F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61E36-FA90-4AB1-AFE3-8B3C6C22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1CBEC3-AB28-4466-A905-B02F9E30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B0CCEF-29EB-4DF3-A805-9B7E9E3B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960E3-4BA0-48D4-9E38-D3B72F3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B92C19-6EE0-47ED-ABAB-78B4014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02EA-D11D-4A24-92D2-5C274A07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3C0CC3-6DF7-47FE-9715-DFE52BD6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BDF71-6935-462B-B3C5-B97C9E4C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5DFAA-17A8-4A25-950A-129B84A8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E0C8E1-08B7-4160-B388-FB0FA843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CE6F01-88B6-496F-ABBA-63AA261F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08E7ED-B85C-440C-B8FB-E4BFE34A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DD3CC2-C4C7-4452-A8E0-AA2B038A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BD2DD7-69D1-4905-9FE6-E3299293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170630-2FBC-408E-9329-4EE6FB9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3B444D-2560-4308-AA28-2986668A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34C5-800A-4B06-B07A-5E1A0C5C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C41B5C-C567-4212-8696-1E03FCB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213E4-EE41-4525-AEAB-7A1D652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BBAC97-C4E6-453B-B4C9-7C81BC1A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DC727F-9E54-44F5-9362-584B97CF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8CFE92-3B7E-4127-A33C-60C27275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7D8152-48D5-4404-9ABE-A648C279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0019F7-B62F-421C-9744-6708553F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C7B3D7-2461-45A1-8AE0-429B51FA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4FF8BC-D2FB-4521-8F33-4DDD785D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BF94E0-B4D8-4168-BFF5-4E95D733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0F43-D1D4-4354-BABB-CD8C89E1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5142C2-D0A2-471F-A7DB-20769EB8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D6C440-CB25-4B44-A30B-A0B3710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2630BE-B49F-418A-B852-09CEF95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BCD6CB-EBB0-4CC1-8CCF-B599786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51CB2D-B3B4-4731-AB48-A836BEBB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4C22C9-D6AA-4EB1-8AA9-5AC1F870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F494E1-744B-4701-BAE0-58944607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3174-196F-4322-879E-7CE24B1A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7445-FB75-461E-9706-C35E5BAC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435-C4B9-446E-BB96-BABD41C8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0E58-0A8E-4ED2-991B-3B418A85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BD8E-8B28-4119-A538-DCB0D3C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1375-9B97-47D3-92B0-66C125B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FCAD-146F-4922-B2A9-AEB66A7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6F2B-C05B-4367-97D7-0D3FB87B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49A6-8464-4363-AB15-F5B6BA37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706F-B082-49C1-8AC6-A37073C7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CCB0-6536-4CD0-BA67-232428CE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F048-F743-46E7-904D-4708D463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C2F1-72CE-4AB7-812C-F427224D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5C0-F899-43D1-8A3B-8CFE2B03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1BDA-60AD-4495-9379-D85C09F0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25ED-364B-4A32-9F5C-D7F2BFA5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B08C-311E-4F0C-8E90-383DF589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577D-A0D7-443C-B18A-72E676B1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9B371-BCF3-48CA-A019-090200F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F5FF-1DEF-4A42-B40F-CDF60F0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8952-2420-4F42-AC20-08793011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BB5AE-3C55-4A5F-ACF3-0AA60F27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BAB0-6793-4AF6-B6FD-4537CC7D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07EF-EC9E-4555-A0B4-CBBD5266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4E8-364F-42AC-9879-E4CE759B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2291-89C7-4459-B363-7CCDAAB5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8453A-5893-46F5-86B6-ADB30711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B8EB1-3CC5-4724-BD3C-E42602E2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AF05-2870-4D29-AA36-05D33C50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74FF-D710-483B-80AA-12AC3E3A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001D8-2DF0-48DA-924D-52C3D196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16237-0233-4A45-A6B1-7FB9CFC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D90F8-25AD-40B8-A4C9-2C24F640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CCBC-E2B9-4CEA-9E7D-9020C196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7ADD-3386-48D3-8406-7187886B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821-6D7C-4EB0-B10B-AC82BF7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AC2EA-8C59-4123-858B-B75CB870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C3EE9-D1A4-4FEF-AE70-C09A7752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69DA1-23E9-483F-B1F3-0B8402C7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ED7BD-C176-4E4B-8D24-F0E3291C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A3F65-B93B-490C-9842-E76D39E5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B2C23-01A2-4EDB-AABB-B4F4AD16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85685-117E-490D-9327-D47E37C4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04B8E-0F32-402F-8604-EBE48E6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D71FB-6383-4346-8840-1D4EBC08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22266-4826-448A-8B4B-87387B1B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021-B372-4E2D-AC29-AAB5FD87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3BC91-D6EE-4857-BCD9-557D00C3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FDCD7-1FB0-4C5C-BA53-E32A01EB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3D07-CF87-4EE5-98D3-C37A36AB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63379-C1F9-4917-874F-44874B76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32FC-059A-49C0-9303-16F17C0A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89E5C-12DE-405D-A410-E40A0C5E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83B8D-61E7-4551-BFBB-855C5F0E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F688-D7A1-4441-AD9D-8A53A209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41688-9C8D-4550-89E6-2E85EF09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4E41A-DF3C-4F26-BC19-180BD06F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104-CEE1-40E0-8CEF-91A0700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236C9-EA75-4469-B83B-4B2CB14A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6F43F-BD39-43D1-946B-2AAF06AF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0E4E-D7AF-4D97-9AF9-28A953E1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5779E-6E22-4200-9ADA-A2FA9130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3F9FA-2D90-4DB6-8B5D-FAC609E1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87F3B-B3AE-45F1-B4E3-09D5F677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50C60-B3C3-4560-B7FE-B17B2D6B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E8B2A-D50B-4014-9371-A3D3D70D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C0EB3-795B-4107-82BC-6B0A495F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F2564-181B-4F6A-9907-591E0927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65E-CFC5-4132-8D9D-D7193C1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1C477-762B-4564-8B5E-E4FC2B9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371FA-29D6-440E-B6EC-B13AD23B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6E294-0AF3-45BD-A021-456763E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977AA-8648-4F84-BF69-C08B3F50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F9B57-6420-46FC-B855-E7E9CC6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7BF0-5B85-4DFE-A9FF-F004D370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CC6A5-DD40-4BAD-B4DD-B78BCBF0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5F6B5-A670-476B-8806-795C78B8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4B359-3E79-49C4-AEF5-333CA71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78078-375E-4D06-A073-4405E4EA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2C6B-1357-4F7D-9869-1102E9EEBF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CBDB-148E-4698-8BF8-AA2108C4E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C955-A462-47B3-A3AF-CFF6CB1F26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5EF5-95BD-427F-AC43-EF8FF678BC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5A62-B4A5-4518-96AF-37B471F3C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7E72-FE60-4605-927F-EAC99C3075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93E8-BED3-4CDF-B6A7-63809205B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5706-4E32-494F-B8DA-088BFD3C81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A921-F701-410E-9383-E63F333BF0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EFA-EF7E-4B0D-94D7-7A6595C935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42F8-13F8-4331-8FE1-F1AB8B0D66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CF1A-9811-46FA-AA7F-1390AB7A07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4601-3F6E-4F52-BFD1-E0F7B810FD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5365-5F75-40C9-9111-4A7C0CB54A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72CE-1C27-40FA-8365-044BB4879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449B-D311-4F96-AF67-EB96BF165D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65E2-AC75-49CC-A626-F0A412C2EB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4293-1F8D-4EB3-9C4F-692113CD1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5632-C381-4D05-808A-E3D0C497C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98BC-99DB-4BD5-9F0F-55E6D17CE4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FDB2-8D3A-4273-AE51-8286126F33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CC5B-A403-429E-9254-5D37B5945D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637A-20BC-4555-AF84-6A59DDAD27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7D2F-A2A9-49E7-BF5A-B2CD62DB3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5166-CDA4-4677-A716-489248B5F6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A879-3432-40DF-BFDA-EF239E39D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5C11-2B1B-4A2F-9D71-8736426F45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5DE1-E333-45A6-9B65-FDE0CD19A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30D9-7A1B-4024-81A6-ACDC950A6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345A-AC64-4CC2-8BFD-9DBD6613A5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5911-903C-4E86-8EAA-EF1AC57E54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16C2-A93F-4630-A655-504D99468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AF6-0193-435E-8565-08F4DB9293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5DCF-A5FC-4EA6-BEFB-90C21FFD72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DD9A-E855-48CA-8232-145721C7D8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AD3C-85E2-4DD8-A22F-8DB4729471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1854-21A0-4A4E-8D15-653E31831B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538A-03D4-4757-8E4D-14D404635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6FF9-9377-41D3-9832-32A9037983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1C72-4E4A-41D9-A029-AF77147A7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1332-7483-4468-BBF9-574BAD3FEE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7392-15D2-4B52-98C1-35D241A39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84120" y="3073320"/>
            <a:ext cx="86360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58760" y="1639800"/>
            <a:ext cx="8825040" cy="172584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2" descr=""/>
          <p:cNvPicPr/>
          <p:nvPr/>
        </p:nvPicPr>
        <p:blipFill>
          <a:blip r:embed="rId2"/>
          <a:stretch/>
        </p:blipFill>
        <p:spPr>
          <a:xfrm>
            <a:off x="1706400" y="3832200"/>
            <a:ext cx="6258240" cy="23144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2916360" y="20318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3132000" y="25653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5508720" y="2565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8028000" y="21049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8"/>
          <a:stretch/>
        </p:blipFill>
        <p:spPr>
          <a:xfrm>
            <a:off x="8244000" y="2565360"/>
            <a:ext cx="677880" cy="4478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9"/>
          <a:stretch/>
        </p:blipFill>
        <p:spPr>
          <a:xfrm>
            <a:off x="3492360" y="4365720"/>
            <a:ext cx="677880" cy="447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10"/>
          <a:stretch/>
        </p:blipFill>
        <p:spPr>
          <a:xfrm>
            <a:off x="3305160" y="5084640"/>
            <a:ext cx="677880" cy="4478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11"/>
          <a:stretch/>
        </p:blipFill>
        <p:spPr>
          <a:xfrm>
            <a:off x="5940360" y="4437000"/>
            <a:ext cx="677880" cy="4478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12"/>
          <a:stretch/>
        </p:blipFill>
        <p:spPr>
          <a:xfrm>
            <a:off x="6199200" y="5084640"/>
            <a:ext cx="6778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596880"/>
            <a:ext cx="8743680" cy="61912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116000" y="393372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291280" y="329868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364000" y="387504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826920" y="561816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900000" y="619452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5075280" y="561816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5148360" y="6194520"/>
            <a:ext cx="33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14200" y="679320"/>
            <a:ext cx="8715600" cy="61153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476360" y="3386160"/>
            <a:ext cx="684072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6840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332000" y="4508640"/>
            <a:ext cx="68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1332000" y="5084640"/>
            <a:ext cx="68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1332000" y="5661000"/>
            <a:ext cx="68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7"/>
          <a:stretch/>
        </p:blipFill>
        <p:spPr>
          <a:xfrm>
            <a:off x="1332000" y="6237360"/>
            <a:ext cx="68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576360" y="1238400"/>
            <a:ext cx="7991280" cy="43812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042920" y="201780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971640" y="3716280"/>
            <a:ext cx="70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755640" y="430704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7"/>
          <a:stretch/>
        </p:blipFill>
        <p:spPr>
          <a:xfrm>
            <a:off x="755640" y="4927680"/>
            <a:ext cx="7058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81080" y="1476360"/>
            <a:ext cx="8781840" cy="3905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900000" y="230508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900000" y="288144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971640" y="350028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684360" y="4638600"/>
            <a:ext cx="640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00160" y="1123920"/>
            <a:ext cx="8743680" cy="4610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262260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900000" y="321300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71640" y="436572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755640" y="494172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200160" y="860400"/>
            <a:ext cx="8743680" cy="5648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8064360" cy="107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619280" y="363060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619280" y="414972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619280" y="472428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547640" y="53737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826920" y="5950080"/>
            <a:ext cx="8066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52560" y="765000"/>
            <a:ext cx="9038880" cy="5981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55640" y="276552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51850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971640" y="458136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1476360" y="50990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7"/>
          <a:stretch/>
        </p:blipFill>
        <p:spPr>
          <a:xfrm>
            <a:off x="611280" y="5691240"/>
            <a:ext cx="813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190440" y="1314360"/>
            <a:ext cx="8763120" cy="422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2340000" y="42498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5003640" y="424980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6:4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